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495-45B7-46D5-A784-7339F67B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F70-5BB2-43E2-9527-2B5E576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324-E029-4579-8B23-695E770C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E90-1CA1-46CB-8C9C-634DDD70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23B-309A-4B3D-9075-C830542B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2CD-F718-4E40-B14E-222EACD2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AFA-F38B-4725-92CD-118D487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556-BEEC-43A5-9FF0-37666935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F85-E943-4E36-9B1D-4AE5822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EE5-CDC6-415B-8FB9-FE36573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E9D-DC58-49C2-A880-A369158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739-A559-44AF-8891-448EE62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B3D-3558-4258-B34C-5AF84E6F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6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6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3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5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2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7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1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5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7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4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097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12-08T17:55:26Z</dcterms:modified>
  <cp:revision>61</cp:revision>
  <dc:subject/>
  <dc:title>Wzmacniacze mocy</dc:title>
</cp:coreProperties>
</file>